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7EEC-2774-4AF4-8D5F-D73E70DAD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629B-2B81-4D56-97F1-4754303A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0011AE-A61C-4018-A2CD-147D1844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B7AEF3-15FE-46DF-84F4-63B99129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96533F-2069-49C8-B2F3-BB94E127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174623-C497-41DF-AE76-9EA2A8F5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9F6C75-AB78-4F68-8749-BC4877BA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8A3C04-8900-40D5-A2F2-9A3B5CCC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B38791-113F-4164-80AB-F9DD27CE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7B127B-AEDE-48A8-9C8C-E503A08D4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1730AD-3F17-4407-8E17-F904C6C0F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A666EC-BFA3-4947-ADF6-80CBA2035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51A0-4714-47D0-AAF4-A2E4F9684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2B4650-43AA-434C-8E90-15541672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D379D-CB9E-4D82-97D7-005E8261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778061-1065-421B-8927-F6B5AA08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85115-5144-49FD-A00D-38EAF79F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22F2C-B21C-40EC-AB87-C8EDBF6D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A7ED97-CBBC-4EC9-9933-ED302877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70BB35-BD7A-41A3-82BD-B11A8633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08BB8B-85DB-4210-8A11-7CF39FA7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9DF9A6-59DE-43AC-9FA0-3EEAF4D3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B34CCC-CE01-4B4F-9C5A-0A8965E32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58B3-7C94-4F01-BE87-2476C4ABD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63584D-4188-4A93-8670-ABDCB5F61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05609-D703-4E5B-8F91-3C89A3C4A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0ACA1-FA70-4229-9853-F2BB8292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0FADD-EDC9-4E0B-8C51-EF660FE8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69326-C73C-41B4-BC29-4B11401D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82A14-6574-473B-9AD5-89A59D83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BA258-8D01-4FB3-825E-ECA5A06B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19974-920C-4F14-9C47-6020972B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69853-8DE8-4A16-B379-45618464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AF5D1-D9FE-454A-B898-15EBDF84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990D-C359-45E4-BCAE-894DEFBE7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DD352-3F1D-4E57-9E3C-E80F4396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AD89B-F70B-4EDE-8158-AECF6DF06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3106D-6902-44D4-A5A0-68E61DF0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0CA056-094D-4159-BB7F-D2F7F4670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E9320B-91FE-47DB-8887-0C9F4373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F81B7-BE83-4EEF-BE8C-1AC6869D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2518F0-E685-4358-A473-DB7B8147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651BD7-3560-4014-8F8E-8B9E569A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CF663-ED1B-4030-9B50-8320ACF6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5B538-8128-49A2-A3D2-479A9FEA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E424-29A8-4F43-A517-0167EADA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221EC3-0CB1-4B15-B709-5ECF8D64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A64AA2-0544-470E-9132-7B7481C1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01DA78-3546-4E4B-9E30-297B797E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A3035F-E4FD-4364-9DAA-F5BD20C5D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DD765A-CCDB-47ED-8800-B7FED7FF2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F90192-6CCF-4870-A46F-81B4CD736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1F140D-B782-4A7A-BE81-083D24B2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B5363C-5DF1-4EB7-AA79-30FEB589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AB56D4-7470-47D7-B6A8-DE63BED0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2AB8F3-ACE3-4057-A46D-07FDE08D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698B-ABF8-4AA3-9548-442D1E56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36AD3E-F6C5-43D7-AD1B-CD7988A8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295DEB-DD90-4AC1-AC8C-0E100621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0D90E6-638E-4ADB-BBE1-0439DE97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F2EB5F-CDB9-4288-BE84-0CA27427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557427-3E07-4ED9-8AD5-953B05BD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4E9D48-027A-4D39-92AD-0392FBF48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D50888-1123-46A1-9A9D-CAF7770D8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6CFF90-E6EE-40D7-8AAF-459031D6C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234D09-C7F5-495F-999B-615BEAE4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FE26F5-4318-4588-AF1D-04F799F0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B21E-8D68-4C8C-B568-82466462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4A3521-9998-4135-9AE5-D38AA792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ADF718-EE63-43D1-9EA7-A2DF9B0C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DB3D4D-B3DC-4D9E-9173-BE7B0192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447E4B-8110-4095-8157-5E07B28F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61368E-5BE4-4314-B938-300106C6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2CEB94-279F-46B8-8BDF-BE18794A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0515AA-FA58-4FCF-A0D7-7D023EBB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BCEBC8-3FDF-4100-82AA-3D6AD59BC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E31078-5CFC-4F8A-A0B3-E7D7DDDBC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D64A61-88F6-4EAD-8A48-C4A6E9D89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60C7-8C8B-4FEA-82CE-A77C71F0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9B791E-52E9-4E9B-8FCB-D3614C7F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5A7859-A008-4965-9815-3977065E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DD0677-FD67-4FD9-86FF-A3C7CEC0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CF2B59-F19E-4090-B71E-8C27D936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F24D9E-509B-44DF-86AF-1BEE0439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1E4418-D8A2-4785-80BD-3C47DF67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049120-CB30-48A2-83C2-6CDD2877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FB8961-B30D-496B-AFAF-EA2C9146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383789-0CD5-40C1-9A13-02A4107C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9D6382-7839-4A4C-98AE-96B5EDF04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E5FD-87BE-4CCC-B530-E5770A0F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117744-7EB5-4272-8154-F94738C2B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C7A1C0-B417-4383-BD5B-45F3E6CFB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02F5CA-C599-401D-B5B3-A85CC383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65AEFE-B4DC-41F4-9394-50FEEE02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04A57C-3C06-499F-BA07-12ECF467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7A1A44-048D-4DD1-954F-F00951C1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F45A81-4FD0-4AD2-A85F-4B87C5FC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BA037D-00C6-4E1B-9295-ACD07B7C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5B49A8-7C45-491D-A0B7-0C140B3B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67DD6B-8EE3-4066-AA6D-DD7B2349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D878-A3F2-4F5C-9190-35453931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ACB12B-C512-4D70-8472-B0D86D6C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88EED6-7BF8-4E6F-B615-067BFA61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BEDD9D-64E4-48FF-9185-6B9879A4C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1DF064-4967-4502-8614-5F4113CD4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538CC4-2391-4E05-A301-ADC5C859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F1AA87-F6EE-4AE7-B44C-F3F24B22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102E3D-A17E-4840-8BB3-B2A4127A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40D602-72E2-4147-B62A-1F4F9BB6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03AD45-8416-4DDB-A878-0979D6A9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7FFF96-4907-44F5-ADC4-E0414B4D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4B25-1039-4625-B7FF-8A9EC155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5418-5DE6-4740-BD4E-B848D4DB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DAF6AF-5A86-4DC5-B012-9A27D4C9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BADDF9-EDCC-418C-836A-48307E8F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6B5FD1-4932-4DFA-B29B-B330D581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DF5A66-236B-4833-8341-D697258D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A1E194-7EC9-430F-BB23-7EAB15DC7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C888C1-3B51-4606-8A87-E39BBE11A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89F744-6AA4-4A6B-A665-3D80A126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101BD9-865D-4FA1-90E3-82274891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B51E1A-7989-44D1-9EBC-F3421F10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D83027-301C-4A8D-835D-2B0C91CE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1415-691D-4448-A58E-636D47E2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824997-2F7C-433D-8A15-59D3DBD9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0C9069-3F89-4630-A2E9-5B2F062A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96C42E-09A6-407D-AB13-D7212DED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CEC132-75C0-4263-9856-B9E2177F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F3076E-170F-451C-ABE6-97EFA5C7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27DB07-EC5F-4983-8C55-E8D09083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161746-A5B3-4A94-9A63-B290858FD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A172A5-9899-4DCD-B6E1-E39D3A73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258ACD-A7C6-4A3C-A0AC-705323C6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A562A8-8276-449E-8A41-8F38A88F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F4B9-63A2-4CC4-AA0B-72C37C17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5C371C-B907-47C6-8544-0FB7F818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A9B74A-6C47-414E-ABDA-BD4B2316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1E5405-5BE2-4E46-8810-6ACFF3D1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1D0619-8198-4C27-A5D2-2F02E897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36FC0D-3169-47DE-B771-2205847F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8C4F34-7A24-410B-BD1A-0B5871D1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0A10C8-283A-4FB7-B598-3B6DBCEE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E23130-2E2F-4526-8324-33398924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1E9200-07DB-4647-98FD-13991E760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1CB464-CDE5-40CB-82AE-3659BCE21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5903-6793-43E2-A65A-1E52F1065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184CF8-48BE-43B2-878E-15FB566F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1D0909-68DD-43B4-8D23-C4E1EED4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689963-102C-4B48-A906-6A2B8C6A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C92401-7E26-483B-9178-9A45418A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F4B25A-58D4-4079-A417-CBBA3BB1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4FFFE2-98C7-410E-A296-6F9DA4C8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36542E-41B7-4243-A094-C943403C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5766EA-8EAF-4A04-A68A-945B3872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5FF9F7-70CC-4C81-82F9-C10E3731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108909-FB1B-40C6-B17D-049F29AB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24E6-1977-4FFE-82EF-1A1547BCA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ED9560-45AB-4FB5-8BD8-318CFE040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44DA7-B952-4FB1-8370-04FC78B1F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E11D6-490E-48DF-A40F-1D0E2B17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8E566-9AB1-4D37-B574-FF9BF354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0786A-E62A-4257-944E-7BBDD8E4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0625D-BCE9-4B17-A0C2-1C35C063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CFDE-7259-459E-828B-5BDBA456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EEC09-397B-4CE1-9346-004B757A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BC3F3-B022-42AB-B2E6-8E9D92B8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FB7BD-F7E2-4E62-94D0-8518E2D2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ECC94-09A9-4AFE-8E21-4B9DFC28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DC299-EFCE-429C-810F-94D05E7D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6CC34-C08B-4CAD-A65E-57987627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356BB-2C5A-4BA4-9B7C-90EB27BF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624ED5-E906-4EFB-8AD0-F917F3971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23182D-E3A4-4246-9F27-C0F81200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5EAB40-68B6-4A57-BCAE-ADA25C4E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85A8-FABD-4483-97C6-94F8C700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FC12E2-AACB-452E-AD44-26E76CB6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2B03CB-124C-42D8-9A5E-FC39C5B6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7370EE-CF63-40A7-8FE4-9DDFB700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25FF13-DB27-4C34-9BD6-095C6D3A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278DAC-515B-4F00-9EAB-7CABFE1A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B71B51-94C2-488E-B165-C85E182C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6F8861-684C-45D8-A1DD-439433E7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CEF1B9-8F05-4D2E-8BCA-5DDB3D42A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0E9EFB-C1C8-4A7F-9BE9-919948EFE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DA28B-414E-45E1-A77E-B98239A70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BC44-20A9-4ECF-958B-48360970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E59A9-52DA-494D-ADE8-CB05AECB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534B0-CE72-4724-8833-D8F73390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46B89-A039-4B8B-96DD-04041DC1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EE6B0-BAE0-4546-AC04-F7B79E0D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F4441-7358-40B1-96C2-3D8652D0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761E6-F085-49E0-87D4-056E57AC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DD1A8-EA4B-4096-A9CD-DA224CC8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AA046-38C5-4B29-90C3-20EDC506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66D37-1A9D-4201-8C8D-79DD8CC1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4F928-8DD9-4615-B5C1-8B6631BFA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709E-8950-4C6F-9CEC-48C5C515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0C538-EA2C-487C-A33E-6BCD257FF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F017A-395F-4B20-8F1D-E4B4B5B6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780BD-CAFD-40DC-95F3-F22A8D56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E86FD-AB8F-4858-93FF-3B4DC006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E6693-9F8B-48B6-ADB5-5C04BADE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F7859-6C10-4B61-B31D-4B43D580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0648A-C0ED-4F15-91C9-2A6C104D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2A563-8E7C-4A50-B812-26CC1D47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16559-E515-4B14-BADB-20A9F247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3D08D-21B1-4AC1-85E1-B3765DDB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7710-6FEC-41B7-9C8D-AA7512D6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BC2B6-BCA9-429A-8264-C37C1106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C19C8-1E51-4F0F-B883-02481B33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87CC3-FD12-416F-BF43-2C978F79B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AC2BB-68B6-4913-AD01-3C22C62F6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FEAF5-9C30-40C5-93E4-90DB36F0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10158-A64E-4119-BBA4-2AF237D5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8C7B9-9274-43FB-905D-9820D05E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A0903-9DB3-47BB-86B3-50EE2D51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1DD6B-1C26-481C-93F7-65054A23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6F0E3-DAF4-4195-9B34-57F93D93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6F5C-63BB-4A4D-A98A-FD110EE0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D9A3F-F102-4687-8DEF-C65F81C7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B9BC2-34F3-4A09-8C51-3FE373CD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E70B1-499C-42E5-957A-4E19C2B8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ECE3A-BA6E-423C-B5C6-85AD3D8CB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04DF0-5FA3-4029-9CE5-588D21A3A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CE4D9D-669D-417B-89D6-56DC7D359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6D7893-C1E0-4F08-95AA-38533516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E67C45-4036-4949-BD9E-2ED60F6A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77238F-B9A8-4023-B682-5F0C8888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2A2CC3-8C73-4280-8FD6-33FCC84E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B5AD-0D17-45F5-9713-9FA5A7DA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74A2B9-CE8A-4358-91C9-E88F6C27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9623A2-FCB4-45AD-9014-546BC2C5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9A2CFC-35A7-4DFA-A678-309BFD8A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E69177-A56A-4BC3-86A9-D0549961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447198-E0C4-4503-A48F-AD78AFE2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3A4CC5-1501-4CBA-92DC-3F795E0D5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D84F95-BAF5-4F38-B2C8-81F03E561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7442A0-F734-47FE-B6F7-36585539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FB124C-D9B8-4441-B5BF-0BF64E66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CBA63F-454A-48E0-8F22-16995011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169.xml"/><Relationship Id="rId35" Type="http://schemas.openxmlformats.org/officeDocument/2006/relationships/slideLayout" Target="../slideLayouts/slideLayout170.xml"/><Relationship Id="rId36" Type="http://schemas.openxmlformats.org/officeDocument/2006/relationships/slideLayout" Target="../slideLayouts/slideLayout171.xml"/><Relationship Id="rId37" Type="http://schemas.openxmlformats.org/officeDocument/2006/relationships/slideLayout" Target="../slideLayouts/slideLayout172.xml"/><Relationship Id="rId38" Type="http://schemas.openxmlformats.org/officeDocument/2006/relationships/slideLayout" Target="../slideLayouts/slideLayout173.xml"/><Relationship Id="rId39" Type="http://schemas.openxmlformats.org/officeDocument/2006/relationships/slideLayout" Target="../slideLayouts/slideLayout174.xml"/><Relationship Id="rId40" Type="http://schemas.openxmlformats.org/officeDocument/2006/relationships/slideLayout" Target="../slideLayouts/slideLayout175.xml"/><Relationship Id="rId41" Type="http://schemas.openxmlformats.org/officeDocument/2006/relationships/slideLayout" Target="../slideLayouts/slideLayout176.xml"/><Relationship Id="rId42" Type="http://schemas.openxmlformats.org/officeDocument/2006/relationships/slideLayout" Target="../slideLayouts/slideLayout177.xml"/><Relationship Id="rId43" Type="http://schemas.openxmlformats.org/officeDocument/2006/relationships/slideLayout" Target="../slideLayouts/slideLayout178.xml"/><Relationship Id="rId44" Type="http://schemas.openxmlformats.org/officeDocument/2006/relationships/slideLayout" Target="../slideLayouts/slideLayout179.xml"/><Relationship Id="rId4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181.xml"/><Relationship Id="rId32" Type="http://schemas.openxmlformats.org/officeDocument/2006/relationships/slideLayout" Target="../slideLayouts/slideLayout182.xml"/><Relationship Id="rId33" Type="http://schemas.openxmlformats.org/officeDocument/2006/relationships/slideLayout" Target="../slideLayouts/slideLayout183.xml"/><Relationship Id="rId34" Type="http://schemas.openxmlformats.org/officeDocument/2006/relationships/slideLayout" Target="../slideLayouts/slideLayout184.xml"/><Relationship Id="rId35" Type="http://schemas.openxmlformats.org/officeDocument/2006/relationships/slideLayout" Target="../slideLayouts/slideLayout185.xml"/><Relationship Id="rId36" Type="http://schemas.openxmlformats.org/officeDocument/2006/relationships/slideLayout" Target="../slideLayouts/slideLayout186.xml"/><Relationship Id="rId37" Type="http://schemas.openxmlformats.org/officeDocument/2006/relationships/slideLayout" Target="../slideLayouts/slideLayout187.xml"/><Relationship Id="rId38" Type="http://schemas.openxmlformats.org/officeDocument/2006/relationships/slideLayout" Target="../slideLayouts/slideLayout188.xml"/><Relationship Id="rId39" Type="http://schemas.openxmlformats.org/officeDocument/2006/relationships/slideLayout" Target="../slideLayouts/slideLayout189.xml"/><Relationship Id="rId40" Type="http://schemas.openxmlformats.org/officeDocument/2006/relationships/slideLayout" Target="../slideLayouts/slideLayout190.xml"/><Relationship Id="rId41" Type="http://schemas.openxmlformats.org/officeDocument/2006/relationships/slideLayout" Target="../slideLayouts/slideLayout191.xml"/><Relationship Id="rId42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E39E-0371-4FA7-B04E-031B014CC486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1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5AF3-4D59-42C6-8F3C-60FE22641B4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7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7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9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61B8-0A9F-4CA1-8202-CD7B9B2599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7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68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969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982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83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 type="dt" idx="3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BC91-D23B-47EB-B70E-E09A29D0F48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59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3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3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6249-7393-47BE-8378-046FCF5C887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4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235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269" name="PlaceHolder 1"/>
          <p:cNvSpPr>
            <a:spLocks noGrp="1"/>
          </p:cNvSpPr>
          <p:nvPr>
            <p:ph type="dt" idx="4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ftr" idx="4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 type="sldNum" idx="4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ADD8-3B84-4481-8778-3C8BDCA7033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9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10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1313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314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315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316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317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8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9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32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8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0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1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2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33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334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5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6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8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9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1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2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3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4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5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6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7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8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9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0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1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2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353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 type="dt" idx="4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 type="ftr" idx="4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 type="sldNum" idx="4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F76A-22AF-4848-9ED6-35CBAF1812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4"/>
    <p:sldLayoutId id="2147483832" r:id="rId35"/>
    <p:sldLayoutId id="2147483833" r:id="rId36"/>
    <p:sldLayoutId id="2147483834" r:id="rId37"/>
    <p:sldLayoutId id="2147483835" r:id="rId38"/>
    <p:sldLayoutId id="2147483836" r:id="rId39"/>
    <p:sldLayoutId id="2147483837" r:id="rId40"/>
    <p:sldLayoutId id="2147483838" r:id="rId41"/>
    <p:sldLayoutId id="2147483839" r:id="rId42"/>
    <p:sldLayoutId id="2147483840" r:id="rId43"/>
    <p:sldLayoutId id="2147483841" r:id="rId44"/>
    <p:sldLayoutId id="2147483842" r:id="rId4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5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406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1409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10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11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12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13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4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15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7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8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42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429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43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49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 type="dt" idx="4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 type="ftr" idx="4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 type="sldNum" idx="4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A3FB-6FB9-4381-931E-38FF547F28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1"/>
    <p:sldLayoutId id="2147483845" r:id="rId32"/>
    <p:sldLayoutId id="2147483846" r:id="rId33"/>
    <p:sldLayoutId id="2147483847" r:id="rId34"/>
    <p:sldLayoutId id="2147483848" r:id="rId35"/>
    <p:sldLayoutId id="2147483849" r:id="rId36"/>
    <p:sldLayoutId id="2147483850" r:id="rId37"/>
    <p:sldLayoutId id="2147483851" r:id="rId38"/>
    <p:sldLayoutId id="2147483852" r:id="rId39"/>
    <p:sldLayoutId id="2147483853" r:id="rId40"/>
    <p:sldLayoutId id="2147483854" r:id="rId41"/>
    <p:sldLayoutId id="2147483855" r:id="rId42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50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150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50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15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15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5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15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E1EB-15D2-4E17-BB6E-B334FC978F4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5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15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5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15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16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6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16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4F90-9ED9-471F-86D0-64DF035CF5D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8606-06FF-490A-A9E3-A2A0E54DBD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2AFD-68B4-4648-BB55-1CBB21E815D6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1A4A-F865-4470-8EBC-28FCC224ED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1E20-BEFA-4716-82A4-9B559F42F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D839-DA01-4E9E-A24C-857DCAEDF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33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BD4E-FA51-4EB7-94BB-3F06C6F25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83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9F62-4718-472E-A292-57C181B27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0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34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36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4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E965-3A4E-49A4-B0D2-210129452C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91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95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97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0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A814-590D-454C-BAE0-C0F3C0395F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5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3D72-A1C8-4801-A0E2-9BA56E063D6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9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1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7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Curlz MT"/>
              </a:rPr>
              <a:t>La mans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or: Ana Min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S un garaj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Verdana"/>
              </a:rPr>
              <a:t>El garaje es lujosa y grand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4" name="" descr=""/>
          <p:cNvPicPr/>
          <p:nvPr/>
        </p:nvPicPr>
        <p:blipFill>
          <a:blip r:embed="rId1"/>
          <a:stretch/>
        </p:blipFill>
        <p:spPr>
          <a:xfrm>
            <a:off x="2133720" y="3048120"/>
            <a:ext cx="4762440" cy="317160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La man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Tahoma"/>
              </a:rPr>
              <a:t>La mansion es grande y moder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0" name="" descr=""/>
          <p:cNvPicPr/>
          <p:nvPr/>
        </p:nvPicPr>
        <p:blipFill>
          <a:blip r:embed="rId2"/>
          <a:stretch/>
        </p:blipFill>
        <p:spPr>
          <a:xfrm>
            <a:off x="2438280" y="2819520"/>
            <a:ext cx="4572000" cy="316692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c5c4"/>
                </a:solidFill>
                <a:latin typeface="Arial Black"/>
              </a:rPr>
              <a:t>La cocin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La cocina es bonita y estupend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3" name="" descr=""/>
          <p:cNvPicPr/>
          <p:nvPr/>
        </p:nvPicPr>
        <p:blipFill>
          <a:blip r:embed="rId1"/>
          <a:stretch/>
        </p:blipFill>
        <p:spPr>
          <a:xfrm>
            <a:off x="2514600" y="3124080"/>
            <a:ext cx="4114800" cy="293220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5c1f5"/>
                </a:solidFill>
                <a:latin typeface="Arial"/>
              </a:rPr>
              <a:t>El comedo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l comedor es pequ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ń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 pero comoda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6" name="" descr=""/>
          <p:cNvPicPr/>
          <p:nvPr/>
        </p:nvPicPr>
        <p:blipFill>
          <a:blip r:embed="rId1"/>
          <a:stretch/>
        </p:blipFill>
        <p:spPr>
          <a:xfrm>
            <a:off x="2286000" y="2895480"/>
            <a:ext cx="4876920" cy="314352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La cas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La casa es lujoso y fabulosa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9" name="" descr=""/>
          <p:cNvPicPr/>
          <p:nvPr/>
        </p:nvPicPr>
        <p:blipFill>
          <a:blip r:embed="rId1"/>
          <a:stretch/>
        </p:blipFill>
        <p:spPr>
          <a:xfrm>
            <a:off x="2286000" y="3276720"/>
            <a:ext cx="5029200" cy="272088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 ban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ahoma"/>
              </a:rPr>
              <a:t>El bano es rojo y Blanco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2" name="" descr=""/>
          <p:cNvPicPr/>
          <p:nvPr/>
        </p:nvPicPr>
        <p:blipFill>
          <a:blip r:embed="rId1"/>
          <a:stretch/>
        </p:blipFill>
        <p:spPr>
          <a:xfrm>
            <a:off x="1981080" y="2335320"/>
            <a:ext cx="4724640" cy="373860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El cuar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El cuarto es rojo, Blanco, azul, y café y bella.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5" name="" descr=""/>
          <p:cNvPicPr/>
          <p:nvPr/>
        </p:nvPicPr>
        <p:blipFill>
          <a:blip r:embed="rId2"/>
          <a:stretch/>
        </p:blipFill>
        <p:spPr>
          <a:xfrm>
            <a:off x="2133720" y="274320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l pati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 patio es relajante y bonita.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8" name="" descr=""/>
          <p:cNvPicPr/>
          <p:nvPr/>
        </p:nvPicPr>
        <p:blipFill>
          <a:blip r:embed="rId1"/>
          <a:stretch/>
        </p:blipFill>
        <p:spPr>
          <a:xfrm>
            <a:off x="2209680" y="2184480"/>
            <a:ext cx="4724640" cy="391320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l jardi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l jardin es impresionante y tiene un esquema de color agradable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761" name="" descr=""/>
          <p:cNvPicPr/>
          <p:nvPr/>
        </p:nvPicPr>
        <p:blipFill>
          <a:blip r:embed="rId2"/>
          <a:stretch/>
        </p:blipFill>
        <p:spPr>
          <a:xfrm>
            <a:off x="2286000" y="2743200"/>
            <a:ext cx="4572000" cy="327672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4:45:41Z</dcterms:created>
  <dc:creator>minaana</dc:creator>
  <dc:description/>
  <dc:language>en-US</dc:language>
  <cp:lastModifiedBy>minaana</cp:lastModifiedBy>
  <dcterms:modified xsi:type="dcterms:W3CDTF">2012-10-26T17:11:09Z</dcterms:modified>
  <cp:revision>9</cp:revision>
  <dc:subject/>
  <dc:title>La mansion</dc:title>
</cp:coreProperties>
</file>